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582-2E30-4663-A173-271A950F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81E-6CF6-4AB6-9D9A-333D7833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893-7947-4E3D-9AA0-CA64B4C8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E31-C7A6-41B2-847E-B9D75F68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3093-D4F9-4D42-8FF0-47FB0D6E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849F-B189-4F17-A769-5A91F7A3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CD3C-5729-4A98-9EF7-165DF855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D32D-B141-4FA4-B9FE-54756FF2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3648-B649-4CC7-B949-614A55CC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C8E0-86AB-47F4-889F-C84E336C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8C5-15D9-4ED7-B490-DE0FF2D6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BFF-C28D-4B8B-BF5D-588DC999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D0F5-8619-44A6-BA03-8B283B46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FE4C-9156-48E7-A1F4-B1950249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7366-EE66-40D1-A464-8475A448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AAB-E752-4F27-A3A2-540DD383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8D98-1413-4A15-8B80-4EE8B802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5CC-2261-4368-83C1-1748B625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171-8541-4636-8729-E17C20C8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F740-E8D5-43EA-BE9F-6540137D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902-4B52-475D-86CD-140B2084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1AA-B5A6-43DE-827F-4B5E621C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6F9-52A3-46B7-BB84-C6A7924D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B9C-C6A3-4B60-8B75-B20609E2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6A47-827F-42DC-BD0E-FCB99AD2D42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C7E6-4187-4A61-A059-FC4A809B3C9F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سيتم افتتاح الفروع ف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0" y="2204640"/>
            <a:ext cx="38098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ahoma"/>
              </a:rPr>
              <a:t>شارع الإتح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ahoma"/>
              </a:rPr>
              <a:t>شارع الأم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ww.elliott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645000"/>
            <a:ext cx="38098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ahoma"/>
              </a:rPr>
              <a:t>هي طريقة جديدة للاطلاع على الكتب وشرائها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ahoma"/>
                <a:cs typeface="Tahoma"/>
              </a:rPr>
              <a:t>زوروا موقعنا على الشبكة العنكبية أو تفضلوا بزيارتنا في فرعنا الجد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تشكيلة واسعة من الكت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رابطة الكتاب وعروض خاص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مجموعات بح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ساعات قراءة للأطفا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9:12:47Z</dcterms:created>
  <dc:creator>nccworker</dc:creator>
  <dc:description/>
  <dc:language>en-US</dc:language>
  <cp:lastModifiedBy>MohdA</cp:lastModifiedBy>
  <dcterms:modified xsi:type="dcterms:W3CDTF">2004-08-09T16:36:30Z</dcterms:modified>
  <cp:revision>16</cp:revision>
  <dc:subject/>
  <dc:title>Elliotts Bookshop</dc:title>
</cp:coreProperties>
</file>